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21557"/>
        <c:axId val="2955624"/>
      </c:barChart>
      <c:catAx>
        <c:axId val="15521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5624"/>
        <c:crosses val="autoZero"/>
        <c:auto val="1"/>
        <c:lblAlgn val="ctr"/>
        <c:lblOffset val="100"/>
        <c:noMultiLvlLbl val="0"/>
      </c:catAx>
      <c:valAx>
        <c:axId val="2955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21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9BE-9F49-403F-AB6C-E6ED2C32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CDA-B926-46AB-9EC5-D564A9C1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F54-AFE8-4FFF-9A82-F3C935F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206-8C76-4D7C-A6DF-073CBB8B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71E-0646-4632-A623-50D17500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157-AD13-4348-A4EF-134E53E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7F8-D10E-427E-A224-D00324F0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78F-B8CD-436D-84B8-E37BEDCC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B81-4704-4CA4-B18E-4A58F876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6A9-B1B1-4E5F-90C6-C4B65B2E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91E-D3D0-4DDF-AB43-336A164D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C1D-3B38-4B1A-881F-D89BD96B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5782A-29FB-4912-BAB2-213681009D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