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35919"/>
        <c:axId val="47134725"/>
      </c:barChart>
      <c:catAx>
        <c:axId val="19335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34725"/>
        <c:crosses val="autoZero"/>
        <c:auto val="1"/>
        <c:lblAlgn val="ctr"/>
        <c:lblOffset val="100"/>
        <c:noMultiLvlLbl val="0"/>
      </c:catAx>
      <c:valAx>
        <c:axId val="47134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35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92B-4243-4710-901F-6E46248F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E92-40E2-4ADA-810B-689417FB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AA7-4423-40AA-BCA7-0AAE2951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EF0E-7AC8-4EBA-B4AA-ADE32CC2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285-A7C5-48FD-A4CA-073EA1B0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504-EB4B-4169-A7A8-FB7D33F8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E3C-CD50-4D93-A229-4FC34B0E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09F0-EEAE-4044-AB80-EDE3B74A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A08-B4AD-4ED5-B3D8-DAC1B1A2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351-C3FA-4576-BBE2-CE39B64C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CA2-EF3F-4D4F-8F7A-555B572B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7A9-6A74-4B66-B89A-33D67B71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9EB12-3F7D-4586-8310-73CCC2DA6F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